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FA6-265C-47D6-8836-2C0CE860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60B-E1C4-4332-8D91-2221EE48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8D0-9CAE-41AB-BAEF-E86AF6D4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C496-ABE4-42C9-87BC-26996604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F806-4707-4FD9-A424-F6E8FD4B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E75A-063F-4222-8FAD-E44485BC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705C-ADEF-4E46-83A5-6934BFDD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1F9C-14B6-4D90-99B1-C6813184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641B-456C-4DB4-9980-F5AE3A2B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FC32-48B4-40BE-8624-A9A28EB1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9408-FE30-4E8B-B40B-9685A138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A5A-E86F-4D98-B104-EEE10CBD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B17F-F092-40D9-949A-9C5C8E48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97C5-6D7D-49C3-9D19-6240089D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331F-A379-4A53-9534-13E44BB9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63CD-0BD4-46CC-A6BD-3340F13F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33B7-49D1-4C0A-9E81-DA94BFE8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2D9-B7CF-4031-B772-7BAC56C6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757-F6A4-43CA-A2CF-CCAD8B1B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C8B-DE6D-4DA4-A2B6-A02D3BFB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19A-C383-4E73-A9A9-73CB668E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C00-9552-4283-90C5-7074C3F2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AAC-B127-43B4-8C88-9D435C6F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E79-95E1-4E83-A3C5-6D065135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D916-84D8-4EB8-8038-C9C593176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B445-26A2-46B8-A29A-DAD24AB29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76560" y="22856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562360" y="3886200"/>
            <a:ext cx="2819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40384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 How does the amount of sugar at the beginning of the experiment relate to the amount of alcohol produc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sugar there is, the more alcohol (that can be produc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  Why was it necessary to keep all of the glassware clean during the course of this experi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you don’t introduce competing species (bacteria) or more sugar than was intended 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  Explain why naturally fermented products don’t get to be any more than 12 - 15% alcoh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in not 100%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  From the slope of the lines on your graphs, when is the rate of fermentation the fastest?  Explain wh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irst week or so - lots of sugar is available so the yeast multiple rapidly; over time, food runs out and the yeast start to die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  During fermentation, how many ATPs are produced for each molecule of glucose?  Where is the rest of the energy originally present in the gluc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TPs; the rest of the energy is “lost” (in a form that is unavailable to the ye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  What determines what the eventual end products of fermentation will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ype of organism doing the ferm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east always do alcoholic fermentation whereas people always do lactic acid fer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What is the relationship between specific gravity &amp; sugar content? 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ugar content = higher specific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solved sugar increases the density of the grape juic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Is fermentation an aerobic or anaerobic process?  What does tha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erobic; does not use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What is the agent doing the fermen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What is being used for energy during fermentation in this experi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 What are the end products of yeast fermen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yl alcohol and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 Write a balanced equation for the reaction that takes place during this experi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320004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&gt; 2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 + 2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What happens to the specific gravity over time in this experiment? 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ecreases as sugar is fermented and alcohol is produced (alcohol is less de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 What happens to the alcohol content over time in the contain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3:33:01Z</dcterms:created>
  <dc:creator>NHS NPS</dc:creator>
  <dc:description/>
  <dc:language>en-US</dc:language>
  <cp:lastModifiedBy>NHS NPS</cp:lastModifiedBy>
  <dcterms:modified xsi:type="dcterms:W3CDTF">2011-11-29T14:10:51Z</dcterms:modified>
  <cp:revision>5</cp:revision>
  <dc:subject/>
  <dc:title>Fermentation</dc:title>
</cp:coreProperties>
</file>